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7D01-5EBE-4366-85A2-D47B74D9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90F-7A5C-4147-A5B0-3ED1E69A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1187-9808-43C0-B403-D896A3AC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2065-49F8-478B-843C-D3C0764F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203D-3684-4CE9-9885-0FC97CCC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0296-F19B-44E3-8777-53109821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DE9E-45AA-4A75-BDD8-03EE63F1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C74D-5F5C-4130-9D27-7EEEB155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255F-FC66-4287-9E03-6991EAEE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6D67-2068-4C0E-96B8-64A2F433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D097-E9E3-497F-AC5C-D6966F16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9E7-B1F8-41E2-A4F7-D129AB75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99DB-409E-44C7-BFAF-B24467FB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9C6B-71C7-452D-8957-C9719D5B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EE63-54DC-4FC9-90D6-4FF671C9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D4FC-A4B5-4A2C-8CD5-B16489ED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FA63-7034-4D41-A843-D17E2E8C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5BD2-E21A-46BD-9222-0DE773AA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6E9-9837-4B06-8687-541B63BE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E710-DD34-4BA9-80B9-85F7F348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23A-FC6F-4576-8C92-644BCF42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1AC0-3AC7-4B16-814C-F43D60B9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73B0-1148-4467-A2F5-E4B11A63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F618-0C43-4932-B48B-A50CF3FC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005d8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6170-044A-4C42-9778-1835C7ACCD1A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20F6-2E7F-4C91-BC22-2AECEFA22862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005d8c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guzman@ing.uchile.cl" TargetMode="External"/><Relationship Id="rId2" Type="http://schemas.openxmlformats.org/officeDocument/2006/relationships/hyperlink" Target="mailto:sebagusi@hotmail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area #1 IN34A Otoño 200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8f8f8"/>
                </a:solidFill>
                <a:latin typeface="Arial"/>
              </a:rPr>
              <a:t>Sebastián Guzmán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guzman@ing.uchile.c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ebagusi@hotmail.co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emanda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200 puertas simp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120 ventanas dob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Ventanas simples y puertas dobles tienen mercado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isponibilidad de recurso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Cantidad de madera 1000m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de sierra 5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hombre de barnizado 7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49320" y="1981080"/>
          <a:ext cx="7660800" cy="4114440"/>
        </p:xfrm>
        <a:graphic>
          <a:graphicData uri="http://schemas.openxmlformats.org/drawingml/2006/table">
            <a:tbl>
              <a:tblPr/>
              <a:tblGrid>
                <a:gridCol w="1301400"/>
                <a:gridCol w="1767600"/>
                <a:gridCol w="1964160"/>
                <a:gridCol w="262764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Madera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m</a:t>
                      </a:r>
                      <a:r>
                        <a:rPr b="1" lang="en-US" sz="12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rte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maq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Barnizad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hombre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429000"/>
            <a:ext cx="7632720" cy="1584360"/>
          </a:xfrm>
          <a:prstGeom prst="rect">
            <a:avLst/>
          </a:prstGeom>
          <a:solidFill>
            <a:srgbClr val="00cc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71640" y="1989000"/>
          <a:ext cx="7661160" cy="3753000"/>
        </p:xfrm>
        <a:graphic>
          <a:graphicData uri="http://schemas.openxmlformats.org/drawingml/2006/table">
            <a:tbl>
              <a:tblPr/>
              <a:tblGrid>
                <a:gridCol w="1981080"/>
                <a:gridCol w="2691000"/>
                <a:gridCol w="2989080"/>
              </a:tblGrid>
              <a:tr h="72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ecio venta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sto unitari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10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Variables de Decisión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X(p): cantidad de producto p a produci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p 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Є</a:t>
            </a: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 {p. doble, p. simple, v. doble, v. simple}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Función Objetiv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Restriccione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Satisfacer demanda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Disponibilidad de recurso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0" y="3645000"/>
                <a:ext cx="388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cio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st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651640" y="5661000"/>
                <a:ext cx="3024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so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651640" y="4869000"/>
                <a:ext cx="17539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d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Hoja de Cálcu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400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16:18:06Z</dcterms:created>
  <dc:creator> </dc:creator>
  <dc:description/>
  <dc:language>en-US</dc:language>
  <cp:lastModifiedBy>Familia</cp:lastModifiedBy>
  <dcterms:modified xsi:type="dcterms:W3CDTF">2005-03-31T00:56:55Z</dcterms:modified>
  <cp:revision>15</cp:revision>
  <dc:subject/>
  <dc:title>Tarea #1 In34a</dc:title>
</cp:coreProperties>
</file>